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C97-68DB-4769-B5C5-032E7273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3C0-75CF-484D-8B71-AE678AAC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A70-E505-4148-8B21-77517237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070-8446-48DC-8E06-26CC40DE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0CD-0F33-44CA-94A1-355CDBFB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72D-0980-41BB-92B3-FB74EB6E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213-5277-4B55-910A-6510C886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124-5885-4BC6-A516-7FE587A8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BE1-6C88-430A-B9D2-749FE0C4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871-0053-4AFD-826D-82F81FB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D39-4BD7-41B2-9E3E-A1EA5C5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6EF-8F9C-4264-95A8-909E30E4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757-E691-46E5-9BE5-5FAC2AE1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urple Mon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purple_monkey.gif"/>
          <p:cNvPicPr/>
          <p:nvPr/>
        </p:nvPicPr>
        <p:blipFill>
          <a:blip r:embed="rId1"/>
          <a:stretch/>
        </p:blipFill>
        <p:spPr>
          <a:xfrm>
            <a:off x="1752480" y="1471680"/>
            <a:ext cx="6096240" cy="53863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4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ll live toge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a house in a tre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house is ye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Placeholder 4" descr="SchoolBusUSA.jpg"/>
          <p:cNvPicPr/>
          <p:nvPr/>
        </p:nvPicPr>
        <p:blipFill>
          <a:blip r:embed="rId1"/>
          <a:srcRect l="5866" t="0" r="586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en goes to schoo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Placeholder 4" descr="HK_Disneyland_tree_house_by_Dave_Q.jpg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chool is ora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n has many friends at schoo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4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Placeholder 4" descr="greenchuck.jpg"/>
          <p:cNvPicPr/>
          <p:nvPr/>
        </p:nvPicPr>
        <p:blipFill>
          <a:blip r:embed="rId1"/>
          <a:srcRect l="0" t="1026" r="0" b="10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l have green shoes that they w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n was the only one who didn’t have green sho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Documents and Settings\lsabey\Local Settings\Temporary Internet Files\Content.IE5\XSJY32GK\MPj04364170000[1].jpg"/>
          <p:cNvPicPr/>
          <p:nvPr/>
        </p:nvPicPr>
        <p:blipFill>
          <a:blip r:embed="rId2"/>
          <a:stretch/>
        </p:blipFill>
        <p:spPr>
          <a:xfrm>
            <a:off x="2438280" y="18288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Placeholder 4" descr="untitled.bmp"/>
          <p:cNvPicPr/>
          <p:nvPr/>
        </p:nvPicPr>
        <p:blipFill>
          <a:blip r:embed="rId1"/>
          <a:srcRect l="2795" t="0" r="279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friends made fun of 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Placeholder 4" descr="Sad_Face_by_hornsholdmyhalo.jpg"/>
          <p:cNvPicPr/>
          <p:nvPr/>
        </p:nvPicPr>
        <p:blipFill>
          <a:blip r:embed="rId1"/>
          <a:srcRect l="0" t="14846" r="0" b="1484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en cri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905120" y="53337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re is a monke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she got home, she told her par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Placeholder 6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3378240" y="380880"/>
            <a:ext cx="3860640" cy="312444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Placeholder 4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old her that she doesn’t have to have every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Placeholder 4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Jen got back to school she told her friends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opped making fun of Jen and they were all friends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4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10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he is </a:t>
            </a:r>
            <a:r>
              <a:rPr b="0" lang="en-US" sz="6600" spc="-1" strike="noStrike">
                <a:solidFill>
                  <a:srgbClr val="6600cc"/>
                </a:solidFill>
                <a:latin typeface="Calibri"/>
              </a:rPr>
              <a:t>purp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name is 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676520" y="228600"/>
            <a:ext cx="6192720" cy="464832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7 years o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upload.wikimedia.org/wikipedia/en/d/d7/7NumberSevenInCircle.png"/>
          <p:cNvPicPr/>
          <p:nvPr/>
        </p:nvPicPr>
        <p:blipFill>
          <a:blip r:embed="rId1"/>
          <a:srcRect l="0" t="12497" r="0" b="1249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moth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mom is pin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Placeholder 3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father to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2743200" y="1066680"/>
            <a:ext cx="4535640" cy="366084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828800" y="5029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r dad is </a:t>
            </a: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457200" y="304920"/>
            <a:ext cx="4840200" cy="431640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21:46Z</dcterms:created>
  <dc:creator>itsuser</dc:creator>
  <dc:description/>
  <dc:language>en-US</dc:language>
  <cp:lastModifiedBy>itsuser</cp:lastModifiedBy>
  <dcterms:modified xsi:type="dcterms:W3CDTF">2009-05-05T17:28:59Z</dcterms:modified>
  <cp:revision>10</cp:revision>
  <dc:subject/>
  <dc:title>The Purple Monkey</dc:title>
</cp:coreProperties>
</file>